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6D79-685B-41FC-B831-0C28EED71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EF7E-F6D8-43A9-85B6-100B133B1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6427-B4D7-495B-8976-F1752C268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BA07-AC67-4909-B8D8-45373533F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23EDA-EFF9-4158-ABB6-8A23F19815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C72A6-3606-4488-8C48-80B5804196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627CE-4D41-430C-88C6-89008874B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7A93F-F20B-4C56-828C-E891BFAB71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EAC08-CB15-474D-96ED-51F0DA2AF4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F1D73-594A-4D27-823F-B4994D9263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ECB86-1F6C-4E59-B30D-E1CC30844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06A2-4467-43AA-B179-8F9270540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F64A3-B651-4B93-B445-8413C88A8A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50E7A-2028-4376-8DB5-FB401ED38D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89454-8F54-4D91-B6AA-64C4E69D6A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CE39A-4E0D-421B-8CA3-08075E1410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97FB8-F756-405C-84CE-72DC05B37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0F35-BAFA-4010-84CD-36A800919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EB84-E412-4358-8B51-E9DF103A2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6A2B-1A5D-4852-9948-5BAE2177B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B560-25AA-47C8-955D-921993DC1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4806-948E-45AB-92EE-CEE4C4B3F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18BE-A9B8-4130-B252-4EDE333EA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9846-CA24-453D-982B-C2DDD4053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2C8E96F-FD55-48F0-A4AB-4E704E3737F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B064CB6-25CF-4F89-A879-D94A7B5B40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40F192E-77BC-40E0-B27B-3F1F919FE90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3997878-E716-4C46-BAAE-441A548BA71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WO weeks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0-10-04T15:28:40Z</dcterms:modified>
  <cp:revision>338</cp:revision>
  <dc:subject/>
  <dc:title>Exploratory Data Analysis</dc:title>
</cp:coreProperties>
</file>